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2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11.jpeg" ContentType="image/jpeg"/>
  <Override PartName="/ppt/media/image24.png" ContentType="image/png"/>
  <Override PartName="/ppt/media/image25.jpeg" ContentType="image/jpeg"/>
  <Override PartName="/ppt/media/image4.gif" ContentType="image/gif"/>
  <Override PartName="/ppt/media/image27.png" ContentType="image/png"/>
  <Override PartName="/ppt/media/image29.png" ContentType="image/png"/>
  <Override PartName="/ppt/media/image6.gif" ContentType="image/gif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119-C14D-460C-9524-8F9D68D53F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B53-A1D1-4932-9085-55F0CEC21D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단순화된 그림에서는 아리스토텔레스 체계와 잘 부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완전하게 묘사할 경우엔 아리스토텔레스 체계와 갈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D477-904A-4092-966C-10B69D24C05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528C-9421-4E73-B5D9-8607D4A43DF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코페르니쿠스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폴란드 출신의 교회 행정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탈리아 유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신플라톤주의자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들과 교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교황청 주도의 달력 개정 사업에 참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151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년경 지구가 태양 주위를 돈다고 생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BFC-B09A-4473-91E7-76541A978D9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특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equant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용에 대한 불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부등속 운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B09-8503-44EE-8EBF-252A2A7A191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32EA-98EF-4D25-90B3-044DA973B5B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천동설에서는 복잡한 가정을 도입해 설명해야 하는 </a:t>
            </a:r>
            <a:r>
              <a:rPr b="1" lang="en-US" sz="2000" spc="-1" strike="noStrike">
                <a:solidFill>
                  <a:srgbClr val="c0504d"/>
                </a:solidFill>
                <a:latin typeface="맑은 고딕"/>
              </a:rPr>
              <a:t>(1)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행성의 순서 </a:t>
            </a:r>
            <a:r>
              <a:rPr b="1" lang="en-US" sz="2000" spc="-1" strike="noStrike">
                <a:solidFill>
                  <a:srgbClr val="c0504d"/>
                </a:solidFill>
                <a:latin typeface="맑은 고딕"/>
              </a:rPr>
              <a:t>(2)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외행성의 역행 </a:t>
            </a:r>
            <a:r>
              <a:rPr b="1" lang="en-US" sz="2000" spc="-1" strike="noStrike">
                <a:solidFill>
                  <a:srgbClr val="c0504d"/>
                </a:solidFill>
                <a:latin typeface="맑은 고딕"/>
              </a:rPr>
              <a:t>(3)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내행성의 최대 이각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 현상을 훨씬 더 간단하게 설명해 준다는 점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주로 단순성</a:t>
            </a:r>
            <a:r>
              <a:rPr b="0" lang="en-US" sz="20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경제성</a:t>
            </a:r>
            <a:r>
              <a:rPr b="0" lang="en-US" sz="20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조화로움</a:t>
            </a:r>
            <a:r>
              <a:rPr b="0" lang="en-US" sz="20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아름다움과 같은 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맑은 고딕"/>
              </a:rPr>
              <a:t>‘미학적’ 우월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D20F-115E-4D1A-B1FC-3683CB054E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톨레마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주전원이라는 별도의 가정 도입 필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우주구조 자체로 설명 </a:t>
            </a:r>
            <a:r>
              <a:rPr b="0" lang="ko-KR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 실제가 아니라 겉보기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57C-0CA8-4EA3-AC25-49DBE92FAF5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수성과 금성의 경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태양과 함께 몰려 다니는 현상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프톨레마이오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1" lang="ko-KR" sz="2200" spc="-1" strike="noStrike">
                <a:solidFill>
                  <a:srgbClr val="c0504d"/>
                </a:solidFill>
                <a:latin typeface="맑은 고딕"/>
              </a:rPr>
              <a:t>주전원 가정’과 또 다른 ‘별도의 가정’ 필요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코페르니쿠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1" lang="ko-KR" sz="2200" spc="-1" strike="noStrike">
                <a:solidFill>
                  <a:srgbClr val="c0504d"/>
                </a:solidFill>
                <a:latin typeface="맑은 고딕"/>
              </a:rPr>
              <a:t>우주 구조 자체’에서 비롯되는 겉보기 운동 현상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DC3-588C-4548-A3FD-14A2D67943D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성의 순서’ 혹은 ‘행성의 주기’ 문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톨레마이오스의 우주체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t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임의적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 u="sng">
                <a:solidFill>
                  <a:srgbClr val="c0504d"/>
                </a:solidFill>
                <a:uFillTx/>
                <a:latin typeface="맑은 고딕"/>
              </a:rPr>
              <a:t>수성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맑은 고딕"/>
              </a:rPr>
              <a:t>=?</a:t>
            </a:r>
            <a:r>
              <a:rPr b="0" lang="ko-KR" sz="1200" spc="-1" strike="noStrike" u="sng">
                <a:solidFill>
                  <a:srgbClr val="c0504d"/>
                </a:solidFill>
                <a:uFillTx/>
                <a:latin typeface="맑은 고딕"/>
              </a:rPr>
              <a:t>금성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맑은 고딕"/>
              </a:rPr>
              <a:t>=?</a:t>
            </a:r>
            <a:r>
              <a:rPr b="0" lang="ko-KR" sz="1200" spc="-1" strike="noStrike" u="sng">
                <a:solidFill>
                  <a:srgbClr val="c0504d"/>
                </a:solidFill>
                <a:uFillTx/>
                <a:latin typeface="맑은 고딕"/>
              </a:rPr>
              <a:t>태양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화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토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우주체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성반경과 주기 사이의 조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금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화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토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8009-E887-4E03-BAB0-C647B8EFDCB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510-AD28-4814-B540-BDF261B711B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3B5-40B6-47F8-BF08-E73129365E3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4C23-EA3F-4E74-88E4-28ACA9DED83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E0B-7739-4630-90BF-A52404BEAF7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6D2-A193-4E2F-8E66-EB89428C99D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80EA-2A11-4963-9CD5-58E03E2C12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3ADD-E09E-4BC0-B551-3137133423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007D-AAB5-46FC-BCD0-C3AC29AB28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1E06-FCDB-4DC9-82D6-08F23B690F6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의 지동설 근거는 매우 허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목적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리스토텔레스 우주론 내에서 지구 운동 허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의 주요근거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출처 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스콜라 철학 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Oresme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규칙성은 원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조합 외에는 불가능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는 천체와 같이 구형 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따라서 지구도 원운동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스러운 운동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왜 담긴 것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아니라 담은 것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 움직여야 하는가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 회전 속도의 문제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한한 것은 움직일 수 없다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등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득력 부족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을 원래 믿을 사람에게나 진지하게 읽혀질 부분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주된 관심사 아니었음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857-7080-4DD7-9031-09F0AA4F79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지만 너무 복잡해서 실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2F4-889B-4515-A3BA-764463893FE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BB0-2BB0-4A13-90B8-C40C24E69D2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3AE-0CCA-4C12-8B7A-43C7C3B6070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FBD-B452-42BC-A9A7-264D9BA6639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덴마크 벤 섬에 세운 우라니보르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4E96-4603-4FF2-A5E9-75C14E8F4DF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4C6-5FF6-4785-BABE-55F1F0EB9CE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913-B6C5-4056-862D-71C468BCC2B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52BF-D08D-4B94-BC5F-76FB01152B0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1C2-7022-4478-849C-BA435C9C411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B7C-3EB2-4C56-9B9F-3CDA924BB4C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7B83-81ED-48F2-A170-9C747C344DA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0F53-609C-4743-97BD-4577C734E94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c0504d"/>
                </a:solidFill>
                <a:latin typeface="맑은 고딕"/>
              </a:rPr>
              <a:t>다섯 정다면체로 행성들의 궤도 크기 해명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1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0" lang="ko-KR" sz="2100" spc="-1" strike="noStrike">
                <a:solidFill>
                  <a:srgbClr val="c0504d"/>
                </a:solidFill>
                <a:latin typeface="맑은 고딕"/>
              </a:rPr>
              <a:t>안쪽부터 </a:t>
            </a:r>
            <a:r>
              <a:rPr b="0" lang="en-US" sz="2100" spc="-1" strike="noStrike">
                <a:solidFill>
                  <a:srgbClr val="c0504d"/>
                </a:solidFill>
                <a:latin typeface="맑은 고딕"/>
              </a:rPr>
              <a:t>8-20-12-4-6)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15B0-E075-419F-A155-F98212E25B5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공유된 믿음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지구의 정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천상계의 원운동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하늘의 일주운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동→서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태양의 연주운동과 행성의 운동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서→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수성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금성의 최대이각 존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행성의 역행운동 존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65DA-F448-4D97-9D14-A8DAAA425BD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33AB-19C0-4D8E-9441-6C166EE1B3D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5156-EE89-4D29-A3C5-2A6F9F402F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3C8-4902-40A7-8925-B2D0172DFF7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905-EEC7-4273-8810-E4B934D9520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F59-AC24-4961-A885-C3D0D27043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315-00AD-47AE-B896-E31AEF692D6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A5F9-F37E-403E-92FE-7FA40D12C8F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5673-D4BB-4E48-8B6E-F468F7072A7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70F2-7755-4AE6-BC64-C59EA14E03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FC8-D877-4FB7-AF20-8BFB48B1568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4C92-F5E5-4ADF-9931-B1565532BCD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1FA-EADF-43CA-9442-0F88ECA538A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94E3-ED1E-4E68-B43B-FED4202569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4499-CC29-4F4B-AC22-8902838727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의 자연철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운동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잘 부합하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AE8-482B-4CD7-A658-1F789429EFB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250-425A-4FF2-8743-00487E2D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0DF-EEF0-4234-BE72-661E799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F01-1A11-4083-AF04-60962B12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971-F590-4A8B-B77C-77FCFA58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A44-0014-469C-A05A-13E75C79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0169-8F3E-45CF-9CEE-0419794F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13E0-837D-43D6-94E2-871EC43B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980-6D3A-4E7A-ACF1-6979EB3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268-1E70-42FD-99E0-B443AB77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101C-E13D-45D0-A6BC-BA17EEC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1851-F733-434F-9C17-021F045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18E-E750-45FF-B3E0-81D89EE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BC22-CCB2-481D-AA91-46B44A9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5DD-B837-4369-84F1-4A17B299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A333-9DD5-48E8-BEB7-F290A569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12B9-432E-40E3-8E7E-055AE71D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E3DD-2B9F-4116-8E11-274AD562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76E0A-753E-4441-9B3E-EF75BD7A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8DECC-5C56-4980-B4B7-58A69AD7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F2402-472A-4492-ACDB-7484BAD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0E948-7760-42AB-906F-0D40888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AE0CA-0CEE-4630-9193-A9B233C3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531-3E5F-4CE9-8837-8EEC512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39329-587E-485E-969D-9311154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2C984-96A2-434A-9B53-0CB40E9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3EB8A-58D6-4B9A-AE2D-FD9F044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AF43B-CD11-4084-82D8-0C2A45F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F3258-BB32-465E-A433-A8EBEEDC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9D95D-F292-4164-BD3B-CC72E2E4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B7BE6-D278-4374-AE6D-CD53C32C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703E-F58A-483A-B35B-4D75DFA6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F001-87BC-40FE-8CF4-6AD72D1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5525-7B75-44A4-B418-CFC4311C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931-9393-4F91-834F-19119627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EB55-1098-42FD-AE82-58CF337B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C1D45-6BD8-4C2A-908F-A5D23C96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D312-43CD-4DC4-B4DF-A457A526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88FC-BDFD-4B14-AF2D-1D2AD4DC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EE59-9090-47ED-9061-861EB8B3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9BF8-35F9-4A64-B0E9-DC5DB39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E797-9A53-4332-A52B-44E2CD94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9FC9-0384-4006-954A-9E23B2CC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74F0-A022-4929-96B8-9A56E99E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8FC-2C6C-4D8C-B9DB-51A3841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6EC-922E-4341-B900-B05AF36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58A-1B56-40A4-AD59-365C391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057-5082-43AB-9129-9B3A70B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7F6-021D-46D4-A093-4478EC2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27E2-0BE3-43C8-9DD9-A99F88F6BCB1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EDF-E392-4099-BC67-8FC00C504124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7D35-660D-4EEE-8FFE-C1EADDF12867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C82F-08BC-4EC9-AF14-8B06637FE806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699920"/>
            <a:ext cx="84582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코페르니쿠스와 </a:t>
            </a:r>
            <a:br>
              <a:rPr sz="6000"/>
            </a:b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천문학 혁명</a:t>
            </a:r>
            <a:endParaRPr b="1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프톨레마이오스의 우주 체계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7" name="Picture 4" descr="프톨레마이오스 우주모형"/>
          <p:cNvPicPr/>
          <p:nvPr/>
        </p:nvPicPr>
        <p:blipFill>
          <a:blip r:embed="rId1"/>
          <a:srcRect l="0" t="0" r="0" b="21991"/>
          <a:stretch/>
        </p:blipFill>
        <p:spPr>
          <a:xfrm>
            <a:off x="0" y="1125360"/>
            <a:ext cx="4643280" cy="43912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49" name="_x113946544" descr="EMB00001f382367"/>
          <p:cNvPicPr/>
          <p:nvPr/>
        </p:nvPicPr>
        <p:blipFill>
          <a:blip r:embed="rId2"/>
          <a:stretch/>
        </p:blipFill>
        <p:spPr>
          <a:xfrm>
            <a:off x="4824360" y="1125360"/>
            <a:ext cx="431964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중세의 천문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알마게스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굴 및 번역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경이 되어서야 완전히 소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코페르니쿠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Copernicus)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Kingdom of Poland, 1473-1543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4" name="Picture 6" descr="Copernicus"/>
          <p:cNvPicPr/>
          <p:nvPr/>
        </p:nvPicPr>
        <p:blipFill>
          <a:blip r:embed="rId1"/>
          <a:stretch/>
        </p:blipFill>
        <p:spPr>
          <a:xfrm>
            <a:off x="2627280" y="692280"/>
            <a:ext cx="3529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톨레마이오스의 체계는 괴물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질적 원리 조합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주의 조화와 대칭성 훼손</a:t>
            </a:r>
            <a:endParaRPr b="0" lang="en-US" sz="26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0000" y="1981080"/>
            <a:ext cx="4354200" cy="36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300" spc="-1" strike="noStrike">
                <a:solidFill>
                  <a:srgbClr val="ffffff"/>
                </a:solidFill>
                <a:latin typeface="Trebuchet MS"/>
              </a:rPr>
              <a:t>천구의 회전에 관하여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(1543)</a:t>
            </a:r>
            <a:endParaRPr b="1" lang="en-US" sz="2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40000" y="5660640"/>
            <a:ext cx="4354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태양중심설 주장</a:t>
            </a:r>
            <a:endParaRPr b="0" lang="en-US" sz="21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9" name="Picture 4" descr="copernicus1-1"/>
          <p:cNvPicPr/>
          <p:nvPr/>
        </p:nvPicPr>
        <p:blipFill>
          <a:blip r:embed="rId1"/>
          <a:stretch/>
        </p:blipFill>
        <p:spPr>
          <a:xfrm>
            <a:off x="684360" y="981000"/>
            <a:ext cx="33112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태양중심설의 장점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Harmony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d9d9d9"/>
                </a:solidFill>
                <a:latin typeface="Georgia"/>
              </a:rPr>
              <a:t>가지 현상을 지구중심설보다 간단하게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행성의 역행 운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20066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4" name="Picture 4" descr="retrograde"/>
          <p:cNvPicPr/>
          <p:nvPr/>
        </p:nvPicPr>
        <p:blipFill>
          <a:blip r:embed="rId1"/>
          <a:stretch/>
        </p:blipFill>
        <p:spPr>
          <a:xfrm>
            <a:off x="5181480" y="1255680"/>
            <a:ext cx="2710080" cy="4197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epicycle2"/>
          <p:cNvPicPr/>
          <p:nvPr/>
        </p:nvPicPr>
        <p:blipFill>
          <a:blip r:embed="rId2"/>
          <a:stretch/>
        </p:blipFill>
        <p:spPr>
          <a:xfrm>
            <a:off x="930240" y="1276200"/>
            <a:ext cx="3675240" cy="4087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ptolemy"/>
          <p:cNvPicPr/>
          <p:nvPr/>
        </p:nvPicPr>
        <p:blipFill>
          <a:blip r:embed="rId3"/>
          <a:stretch/>
        </p:blipFill>
        <p:spPr>
          <a:xfrm>
            <a:off x="1389240" y="1276200"/>
            <a:ext cx="3144600" cy="419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opernicus_Mars"/>
          <p:cNvPicPr/>
          <p:nvPr/>
        </p:nvPicPr>
        <p:blipFill>
          <a:blip r:embed="rId4"/>
          <a:stretch/>
        </p:blipFill>
        <p:spPr>
          <a:xfrm>
            <a:off x="4605480" y="1276200"/>
            <a:ext cx="314136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내행성의 최대이각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0" name="Picture 5" descr="maximum"/>
          <p:cNvPicPr/>
          <p:nvPr/>
        </p:nvPicPr>
        <p:blipFill>
          <a:blip r:embed="rId1"/>
          <a:stretch/>
        </p:blipFill>
        <p:spPr>
          <a:xfrm>
            <a:off x="611280" y="1268280"/>
            <a:ext cx="7813440" cy="3600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2309400" y="1268280"/>
            <a:ext cx="11408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프톨레마이오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6439320" y="1268280"/>
            <a:ext cx="1003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코페르니쿠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직선 연결선 7"/>
          <p:cNvSpPr/>
          <p:nvPr/>
        </p:nvSpPr>
        <p:spPr>
          <a:xfrm flipH="1">
            <a:off x="1042560" y="3068640"/>
            <a:ext cx="108108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행성 궤도의 크기와 순서 확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6" name="Picture 4" descr="Copernicus distance"/>
          <p:cNvPicPr/>
          <p:nvPr/>
        </p:nvPicPr>
        <p:blipFill>
          <a:blip r:embed="rId1"/>
          <a:stretch/>
        </p:blipFill>
        <p:spPr>
          <a:xfrm>
            <a:off x="684360" y="1341360"/>
            <a:ext cx="78357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코페르니쿠스 체계의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혁명성과 보수성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의 천문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혁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구도 하나의 행성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상계와 천상계 사이의 구분 철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혁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우주 크기의 확장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전에 따른 시차 관측 실패의 이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주의 거대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정체 천구 고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의 운동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7" name="Picture 5" descr="Scan0001"/>
          <p:cNvPicPr/>
          <p:nvPr/>
        </p:nvPicPr>
        <p:blipFill>
          <a:blip r:embed="rId1"/>
          <a:stretch/>
        </p:blipFill>
        <p:spPr>
          <a:xfrm>
            <a:off x="611280" y="963720"/>
            <a:ext cx="78976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운동에 대한 집착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확한 행성 위치 계산 위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minor epicycle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가 제거한 것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major epicycle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equant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복잡한 코페르니쿠스 체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톨레마이오스 체계보다 정확도 향상 없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2" name="Picture 4" descr="cop-sys-bb"/>
          <p:cNvPicPr/>
          <p:nvPr/>
        </p:nvPicPr>
        <p:blipFill>
          <a:blip r:embed="rId1"/>
          <a:stretch/>
        </p:blipFill>
        <p:spPr>
          <a:xfrm>
            <a:off x="2268360" y="692280"/>
            <a:ext cx="4535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당대의 반응은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중심 가설에 회의적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가 움직인다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 물리학과 성서 위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제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프톨레마이오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완전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면에서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Almagest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필적하는 유일한 작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도구적 수용과 천문표 제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s if … 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가 도는 것처럼 가정하고 계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코페르니쿠스 체계를 이용한 천문표 제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인홀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의 천구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원한 등속 원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7" name="Picture 3" descr="플라톤 천구"/>
          <p:cNvPicPr/>
          <p:nvPr/>
        </p:nvPicPr>
        <p:blipFill>
          <a:blip r:embed="rId1"/>
          <a:stretch/>
        </p:blipFill>
        <p:spPr>
          <a:xfrm>
            <a:off x="2340000" y="836640"/>
            <a:ext cx="45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 브라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46-1601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3" name="Picture 4" descr="tycho"/>
          <p:cNvPicPr/>
          <p:nvPr/>
        </p:nvPicPr>
        <p:blipFill>
          <a:blip r:embed="rId1"/>
          <a:stretch/>
        </p:blipFill>
        <p:spPr>
          <a:xfrm>
            <a:off x="2700360" y="765000"/>
            <a:ext cx="33843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정밀 관측 천문학의 시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6" name="Picture 4" descr="Urani2"/>
          <p:cNvPicPr/>
          <p:nvPr/>
        </p:nvPicPr>
        <p:blipFill>
          <a:blip r:embed="rId1"/>
          <a:srcRect l="0" t="-224" r="0" b="2483"/>
          <a:stretch/>
        </p:blipFill>
        <p:spPr>
          <a:xfrm>
            <a:off x="6012000" y="765000"/>
            <a:ext cx="3043080" cy="4967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http://fr.academic.ru/pictures/frwiki/85/Uraniborg_main_building.jpg"/>
          <p:cNvPicPr/>
          <p:nvPr/>
        </p:nvPicPr>
        <p:blipFill>
          <a:blip r:embed="rId2"/>
          <a:stretch/>
        </p:blipFill>
        <p:spPr>
          <a:xfrm>
            <a:off x="250920" y="701640"/>
            <a:ext cx="568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신성 관측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72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0" name="Picture 5" descr="Stella_Nova_320"/>
          <p:cNvPicPr/>
          <p:nvPr/>
        </p:nvPicPr>
        <p:blipFill>
          <a:blip r:embed="rId1"/>
          <a:stretch/>
        </p:blipFill>
        <p:spPr>
          <a:xfrm>
            <a:off x="1619280" y="692280"/>
            <a:ext cx="5678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혜성 관측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77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2160" y="566064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3" name="Picture 6" descr="comet_1577"/>
          <p:cNvPicPr/>
          <p:nvPr/>
        </p:nvPicPr>
        <p:blipFill>
          <a:blip r:embed="rId1"/>
          <a:stretch/>
        </p:blipFill>
        <p:spPr>
          <a:xfrm>
            <a:off x="1187280" y="426960"/>
            <a:ext cx="70218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절충적 지구중심 체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6" name="Picture 3" descr="Scan0044"/>
          <p:cNvPicPr/>
          <p:nvPr/>
        </p:nvPicPr>
        <p:blipFill>
          <a:blip r:embed="rId1"/>
          <a:srcRect l="0" t="3571" r="2532" b="5952"/>
          <a:stretch/>
        </p:blipFill>
        <p:spPr>
          <a:xfrm>
            <a:off x="2050920" y="765000"/>
            <a:ext cx="51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 체계에 대한 당대 반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9" name="Picture 4" descr="almagestum_novum_detail"/>
          <p:cNvPicPr/>
          <p:nvPr/>
        </p:nvPicPr>
        <p:blipFill>
          <a:blip r:embed="rId1"/>
          <a:stretch/>
        </p:blipFill>
        <p:spPr>
          <a:xfrm>
            <a:off x="755640" y="836640"/>
            <a:ext cx="3133800" cy="4995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4l2138d"/>
          <p:cNvPicPr/>
          <p:nvPr/>
        </p:nvPicPr>
        <p:blipFill>
          <a:blip r:embed="rId2"/>
          <a:stretch/>
        </p:blipFill>
        <p:spPr>
          <a:xfrm>
            <a:off x="4218120" y="765000"/>
            <a:ext cx="42368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의 성취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주의 타파에 결정적 기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측에 부합하는 새로운 우주체계 고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교하고 막대한 천문관측 데이터 축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티코 사후에 케플러에게 넘겨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요하네스 케플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71-1630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25" name="Picture 4" descr="kepler"/>
          <p:cNvPicPr/>
          <p:nvPr/>
        </p:nvPicPr>
        <p:blipFill>
          <a:blip r:embed="rId1"/>
          <a:stretch/>
        </p:blipFill>
        <p:spPr>
          <a:xfrm>
            <a:off x="2484360" y="692280"/>
            <a:ext cx="3959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atural-born </a:t>
            </a:r>
            <a:r>
              <a:rPr b="1" lang="ko-KR" sz="3600" spc="-1" strike="noStrike">
                <a:solidFill>
                  <a:srgbClr val="ffffff"/>
                </a:solidFill>
                <a:latin typeface="Trebuchet MS"/>
              </a:rPr>
              <a:t>코페르니쿠스주의자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열렬한 신플라톤주의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점성술과 수비주의에 탐닉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64000" y="1980720"/>
            <a:ext cx="3130560" cy="353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400" spc="-1" strike="noStrike">
                <a:solidFill>
                  <a:srgbClr val="ffffff"/>
                </a:solidFill>
                <a:latin typeface="Trebuchet MS"/>
              </a:rPr>
              <a:t>우주의 신비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(1596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64000" y="5589360"/>
            <a:ext cx="313056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티코의 조수가 되기 전부터 태양중심설 옹호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30" name="Picture 5" descr="kepler_spheres"/>
          <p:cNvPicPr/>
          <p:nvPr/>
        </p:nvPicPr>
        <p:blipFill>
          <a:blip r:embed="rId1"/>
          <a:stretch/>
        </p:blipFill>
        <p:spPr>
          <a:xfrm>
            <a:off x="611280" y="765000"/>
            <a:ext cx="46465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항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붙박이별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 행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떠돌이별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0" name="Picture 2" descr="http://phyux2.ks.ac.kr/ymp/data/others/universe_of_man/universe/cel-sphere/mars_ret.gif"/>
          <p:cNvPicPr/>
          <p:nvPr/>
        </p:nvPicPr>
        <p:blipFill>
          <a:blip r:embed="rId1"/>
          <a:stretch/>
        </p:blipFill>
        <p:spPr>
          <a:xfrm>
            <a:off x="900000" y="907920"/>
            <a:ext cx="7601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의 조수가 되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600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티코 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01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후 그의 관측자료로 화성궤도 계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타원 궤도 법칙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면적 속도 일정의 법칙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《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새로운 천문학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》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1609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∝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《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우주의 조화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》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1619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35" name="Picture 4" descr="keplerlaw"/>
          <p:cNvPicPr/>
          <p:nvPr/>
        </p:nvPicPr>
        <p:blipFill>
          <a:blip r:embed="rId1"/>
          <a:srcRect l="4787" t="2268" r="12724" b="2457"/>
          <a:stretch/>
        </p:blipFill>
        <p:spPr>
          <a:xfrm>
            <a:off x="539640" y="260280"/>
            <a:ext cx="81932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어떻게 원을 버릴 수 있었을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 관측 자료의 정밀성 확신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주전원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이심원 등을 이용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8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분 이상의 오차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원 궤도 폐기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달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타원 등 새로운 궤도 시도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80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여 회의 시행착오 끝에 화성 타원 궤도 확정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1980720"/>
            <a:ext cx="806472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어떻게 등속을 버릴 수 있었을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체물리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0320" y="378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운동의 원인은 태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2160" y="3860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성이 화성의 공전 속도가 느리듯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나의 행성도 태양으로부터 멀어지면 느려지지 않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초기 아이디어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∝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/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r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완성된 아이디어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면적속도 일정의 법칙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46" name="Picture 2" descr="Kepler velosity 2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문학자들의 전면적 수용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 궤도 법칙은 관측 자료와 완전히 일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그러나 일반인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자연철학자들은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코페르니쿠스주의자의 과제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우주의 중심에 지구가 있는 것이 아니라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그리고 지구가 태양 주위를 선회하고 있다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우리는 왜 지구의 운동을 인식하지 못하는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수직으로 쏘아 올린 화살은 왜 뒤쳐지지 않는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※  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천문학 혁명’은 ‘역학 혁명’을 잉태하고 있었음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코페르니쿠스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천구의 회전에 관하여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권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오시안더가 쓴 서문을 통해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자연철학과 구별되는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당시 천문학 이론의 지위와 특징을 추측해보자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코페르니쿠스가 당시 천문학에 대해 가진 불만은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우주의 광대함이 코페르니쿠스에게 중요하게 다루어지는 이유는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행성 운동을 간단하게 설명할 수 있다는 점 외에 코페르니쿠스는 지구의 운동을 어떻게 변호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또 그의 논변은 얼마나 설득력이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3_years_of_saturn"/>
          <p:cNvPicPr/>
          <p:nvPr/>
        </p:nvPicPr>
        <p:blipFill>
          <a:blip r:embed="rId1"/>
          <a:stretch/>
        </p:blipFill>
        <p:spPr>
          <a:xfrm>
            <a:off x="291960" y="549360"/>
            <a:ext cx="8439120" cy="5111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토성의 운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톨레마이오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Ptolemy)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Egypt, 90 - 168 A.D.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알마게스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Almagest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를 통해 천문학 집대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6" name="Picture 2" descr="http://upload.wikimedia.org/wikipedia/commons/thumb/3/36/Ptolemaeus.jpg/220px-Ptolemaeus.jpg"/>
          <p:cNvPicPr/>
          <p:nvPr/>
        </p:nvPicPr>
        <p:blipFill>
          <a:blip r:embed="rId1"/>
          <a:stretch/>
        </p:blipFill>
        <p:spPr>
          <a:xfrm>
            <a:off x="2771640" y="692280"/>
            <a:ext cx="3360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리 행성 천문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의 운동은 원운동의 합성으로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9d9d9"/>
                </a:solidFill>
                <a:latin typeface="Georgia"/>
              </a:rPr>
              <a:t>주전원</a:t>
            </a:r>
            <a:r>
              <a:rPr b="0" lang="en-US" sz="2100" spc="-1" strike="noStrike">
                <a:solidFill>
                  <a:srgbClr val="d9d9d9"/>
                </a:solidFill>
                <a:latin typeface="Georgia"/>
              </a:rPr>
              <a:t>(epicycle), </a:t>
            </a:r>
            <a:r>
              <a:rPr b="0" lang="ko-KR" sz="2100" spc="-1" strike="noStrike">
                <a:solidFill>
                  <a:srgbClr val="d9d9d9"/>
                </a:solidFill>
                <a:latin typeface="Georgia"/>
              </a:rPr>
              <a:t>이심</a:t>
            </a:r>
            <a:r>
              <a:rPr b="0" lang="en-US" sz="2100" spc="-1" strike="noStrike">
                <a:solidFill>
                  <a:srgbClr val="d9d9d9"/>
                </a:solidFill>
                <a:latin typeface="Georgia"/>
              </a:rPr>
              <a:t>(eccentric), </a:t>
            </a:r>
            <a:r>
              <a:rPr b="0" lang="ko-KR" sz="2100" spc="-1" strike="noStrike">
                <a:solidFill>
                  <a:srgbClr val="d9d9d9"/>
                </a:solidFill>
                <a:latin typeface="Georgia"/>
              </a:rPr>
              <a:t>대심</a:t>
            </a:r>
            <a:r>
              <a:rPr b="0" lang="en-US" sz="2100" spc="-1" strike="noStrike">
                <a:solidFill>
                  <a:srgbClr val="d9d9d9"/>
                </a:solidFill>
                <a:latin typeface="Georgia"/>
              </a:rPr>
              <a:t>(equant)</a:t>
            </a:r>
            <a:endParaRPr b="0" lang="en-US" sz="21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주전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epicycle)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역행운동의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1" name="Picture 6" descr="ptolemy"/>
          <p:cNvPicPr/>
          <p:nvPr/>
        </p:nvPicPr>
        <p:blipFill>
          <a:blip r:embed="rId1"/>
          <a:stretch/>
        </p:blipFill>
        <p:spPr>
          <a:xfrm>
            <a:off x="2484360" y="620640"/>
            <a:ext cx="40323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2160" y="6092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epicycle 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질적 설명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 + eccentric &amp; equant 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미세 조정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4" name="Picture 2" descr="http://www.myastrologybook.com/epicycle.gif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0:47:33Z</dcterms:created>
  <dc:creator>zolaist</dc:creator>
  <dc:description/>
  <dc:language>en-US</dc:language>
  <cp:lastModifiedBy>zolaist</cp:lastModifiedBy>
  <dcterms:modified xsi:type="dcterms:W3CDTF">2011-03-23T05:02:32Z</dcterms:modified>
  <cp:revision>24</cp:revision>
  <dc:subject/>
  <dc:title>코페르니쿠스와 천문학 혁명</dc:title>
</cp:coreProperties>
</file>